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AF6-AEF4-411D-B86E-24074C10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63B-B9F0-46CA-81FC-E2D57837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E54-97D3-4FA4-813A-94AA1425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C5F-D2F2-4737-BFF0-415830EE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F1B-8CDA-4859-938B-ED3CD14C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BB5-EB09-44CE-A2F7-2C605822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B68-6554-4070-A75C-E2165419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D65-0BF3-4E04-8A6E-0C6992E9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AEE-F82F-41F5-940C-EEAA00BF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BF5-B0BF-478A-9C9B-972302CD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9AE-4621-49C3-AEF0-42EBC15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10A-ABA0-4B98-9FD1-C005E24C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127E-25F1-4BBA-ACC8-2481E463F6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606480" y="3340800"/>
            <a:ext cx="19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21.3 </a:t>
            </a:r>
            <a:r>
              <a:rPr b="0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用待定系数法确定一次函数表达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6147"/>
          <p:cNvGrpSpPr/>
          <p:nvPr/>
        </p:nvGrpSpPr>
        <p:grpSpPr>
          <a:xfrm>
            <a:off x="325440" y="246240"/>
            <a:ext cx="5290200" cy="808200"/>
            <a:chOff x="325440" y="246240"/>
            <a:chExt cx="5290200" cy="808200"/>
          </a:xfrm>
        </p:grpSpPr>
        <p:sp>
          <p:nvSpPr>
            <p:cNvPr id="164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6151"/>
            <p:cNvSpPr/>
            <p:nvPr/>
          </p:nvSpPr>
          <p:spPr>
            <a:xfrm>
              <a:off x="2021040" y="52020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利用待定系数法解决简单的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0"/>
          <p:cNvGrpSpPr/>
          <p:nvPr/>
        </p:nvGrpSpPr>
        <p:grpSpPr>
          <a:xfrm>
            <a:off x="533520" y="1060560"/>
            <a:ext cx="7347960" cy="1744560"/>
            <a:chOff x="533520" y="1060560"/>
            <a:chExt cx="7347960" cy="1744560"/>
          </a:xfrm>
        </p:grpSpPr>
        <p:sp>
          <p:nvSpPr>
            <p:cNvPr id="170" name="Text Box 4"/>
            <p:cNvSpPr/>
            <p:nvPr/>
          </p:nvSpPr>
          <p:spPr>
            <a:xfrm>
              <a:off x="1176120" y="1065240"/>
              <a:ext cx="6705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温度的度量有两种：摄氏温度和华氏温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水的沸点温度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0℃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用华氏温度度量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12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水的冰点温度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℃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用华氏温度度量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2 ℉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摄氏温度与华氏温度的关近似地为一次函数关系，你能不能想出一个办法方便地把华氏温度换算成摄氏温度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533520" y="106056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2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9"/>
          <p:cNvGrpSpPr/>
          <p:nvPr/>
        </p:nvGrpSpPr>
        <p:grpSpPr>
          <a:xfrm>
            <a:off x="1180080" y="885960"/>
            <a:ext cx="7659000" cy="1480320"/>
            <a:chOff x="1180080" y="885960"/>
            <a:chExt cx="7659000" cy="1480320"/>
          </a:xfrm>
        </p:grpSpPr>
        <p:sp>
          <p:nvSpPr>
            <p:cNvPr id="173" name="Text Box 2"/>
            <p:cNvSpPr/>
            <p:nvPr/>
          </p:nvSpPr>
          <p:spPr>
            <a:xfrm>
              <a:off x="1218960" y="885960"/>
              <a:ext cx="70866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</a:t>
              </a:r>
              <a:r>
                <a:rPr b="0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用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C</a:t>
              </a:r>
              <a:r>
                <a:rPr b="0" lang="en-US" sz="2500" spc="-1" strike="noStrike">
                  <a:solidFill>
                    <a:srgbClr val="0000ff"/>
                  </a:solidFill>
                  <a:latin typeface="宋体"/>
                </a:rPr>
                <a:t>,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F</a:t>
              </a:r>
              <a:r>
                <a:rPr b="0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分别表示摄氏温度与华氏温度，由于摄氏温度与华氏温度的关系近似地为一次函数关系，因此可以设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0"/>
            <p:cNvSpPr/>
            <p:nvPr/>
          </p:nvSpPr>
          <p:spPr>
            <a:xfrm>
              <a:off x="3733560" y="1876320"/>
              <a:ext cx="5105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      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C </a:t>
              </a:r>
              <a:r>
                <a:rPr b="0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 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F </a:t>
              </a:r>
              <a:r>
                <a:rPr b="0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+ 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zh-CN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1180080" y="949320"/>
              <a:ext cx="546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975680" y="2486160"/>
            <a:ext cx="6101280" cy="1625040"/>
            <a:chOff x="1975680" y="2486160"/>
            <a:chExt cx="6101280" cy="1625040"/>
          </a:xfrm>
        </p:grpSpPr>
        <p:sp>
          <p:nvSpPr>
            <p:cNvPr id="177" name="Rectangle 23"/>
            <p:cNvSpPr/>
            <p:nvPr/>
          </p:nvSpPr>
          <p:spPr>
            <a:xfrm>
              <a:off x="1975680" y="2486160"/>
              <a:ext cx="1514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由已知条件，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4"/>
            <p:cNvGrpSpPr/>
            <p:nvPr/>
          </p:nvGrpSpPr>
          <p:grpSpPr>
            <a:xfrm>
              <a:off x="2895480" y="3095280"/>
              <a:ext cx="5181480" cy="1015920"/>
              <a:chOff x="2895480" y="3095280"/>
              <a:chExt cx="5181480" cy="1015920"/>
            </a:xfrm>
          </p:grpSpPr>
          <p:sp>
            <p:nvSpPr>
              <p:cNvPr id="179" name="Rectangle 25"/>
              <p:cNvSpPr/>
              <p:nvPr/>
            </p:nvSpPr>
            <p:spPr>
              <a:xfrm>
                <a:off x="3504960" y="3095280"/>
                <a:ext cx="457200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212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k + b =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0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</a:rPr>
                  <a:t>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32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k + b =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0 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 .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6"/>
              <p:cNvSpPr/>
              <p:nvPr/>
            </p:nvSpPr>
            <p:spPr>
              <a:xfrm>
                <a:off x="2895480" y="3171240"/>
                <a:ext cx="4876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0000ff"/>
                    </a:solidFill>
                    <a:latin typeface="Arial"/>
                  </a:rPr>
                  <a:t>｛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33"/>
          <p:cNvGrpSpPr/>
          <p:nvPr/>
        </p:nvGrpSpPr>
        <p:grpSpPr>
          <a:xfrm>
            <a:off x="2116080" y="4162320"/>
            <a:ext cx="4805280" cy="762120"/>
            <a:chOff x="2116080" y="4162320"/>
            <a:chExt cx="4805280" cy="762120"/>
          </a:xfrm>
        </p:grpSpPr>
        <p:sp>
          <p:nvSpPr>
            <p:cNvPr id="182" name="Rectangle 31"/>
            <p:cNvSpPr/>
            <p:nvPr/>
          </p:nvSpPr>
          <p:spPr>
            <a:xfrm>
              <a:off x="2116080" y="4238640"/>
              <a:ext cx="1704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解这个方程组，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Object 32" descr=""/>
            <p:cNvPicPr/>
            <p:nvPr/>
          </p:nvPicPr>
          <p:blipFill>
            <a:blip r:embed="rId1"/>
            <a:stretch/>
          </p:blipFill>
          <p:spPr>
            <a:xfrm>
              <a:off x="4724280" y="4162320"/>
              <a:ext cx="21970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34"/>
          <p:cNvSpPr/>
          <p:nvPr/>
        </p:nvSpPr>
        <p:spPr>
          <a:xfrm>
            <a:off x="1600200" y="492444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摄氏温度与华氏温度的函数关系式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ject 35" descr=""/>
          <p:cNvPicPr/>
          <p:nvPr/>
        </p:nvPicPr>
        <p:blipFill>
          <a:blip r:embed="rId2"/>
          <a:stretch/>
        </p:blipFill>
        <p:spPr>
          <a:xfrm>
            <a:off x="4267080" y="5610240"/>
            <a:ext cx="1765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774720" y="36684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百舸竞渡，激情飞扬，端午节期间，某地举行龙舟比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、乙两支龙舟队在比赛时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图象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图象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时，哪支龙舟队处于领先位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这次龙舟赛中，哪支龙舟队先到达终点？提前多少时间到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乙队加速后，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9"/>
          <p:cNvGrpSpPr/>
          <p:nvPr/>
        </p:nvGrpSpPr>
        <p:grpSpPr>
          <a:xfrm>
            <a:off x="4683240" y="4300560"/>
            <a:ext cx="3352680" cy="2069640"/>
            <a:chOff x="4683240" y="4300560"/>
            <a:chExt cx="3352680" cy="2069640"/>
          </a:xfrm>
        </p:grpSpPr>
        <p:grpSp>
          <p:nvGrpSpPr>
            <p:cNvPr id="188" name="Group 10"/>
            <p:cNvGrpSpPr/>
            <p:nvPr/>
          </p:nvGrpSpPr>
          <p:grpSpPr>
            <a:xfrm>
              <a:off x="4683240" y="4300560"/>
              <a:ext cx="2800080" cy="2047320"/>
              <a:chOff x="4683240" y="4300560"/>
              <a:chExt cx="2800080" cy="2047320"/>
            </a:xfrm>
          </p:grpSpPr>
          <p:sp>
            <p:nvSpPr>
              <p:cNvPr id="189" name="Line 11"/>
              <p:cNvSpPr/>
              <p:nvPr/>
            </p:nvSpPr>
            <p:spPr>
              <a:xfrm>
                <a:off x="5651640" y="602136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2"/>
              <p:cNvSpPr/>
              <p:nvPr/>
            </p:nvSpPr>
            <p:spPr>
              <a:xfrm>
                <a:off x="4683240" y="549936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3"/>
              <p:cNvSpPr/>
              <p:nvPr/>
            </p:nvSpPr>
            <p:spPr>
              <a:xfrm>
                <a:off x="5045040" y="6004080"/>
                <a:ext cx="31428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4"/>
              <p:cNvSpPr/>
              <p:nvPr/>
            </p:nvSpPr>
            <p:spPr>
              <a:xfrm flipH="1">
                <a:off x="5252760" y="5302440"/>
                <a:ext cx="4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 flipV="1">
                <a:off x="5021280" y="6053400"/>
                <a:ext cx="24620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 flipV="1">
                <a:off x="5297400" y="4424400"/>
                <a:ext cx="0" cy="187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7"/>
              <p:cNvSpPr/>
              <p:nvPr/>
            </p:nvSpPr>
            <p:spPr>
              <a:xfrm>
                <a:off x="6035760" y="602136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8"/>
              <p:cNvSpPr/>
              <p:nvPr/>
            </p:nvSpPr>
            <p:spPr>
              <a:xfrm flipH="1">
                <a:off x="5252760" y="5661000"/>
                <a:ext cx="4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>
                <a:off x="6369120" y="602136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 flipH="1">
                <a:off x="5251320" y="4943520"/>
                <a:ext cx="4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1"/>
              <p:cNvSpPr/>
              <p:nvPr/>
            </p:nvSpPr>
            <p:spPr>
              <a:xfrm>
                <a:off x="5491080" y="6053400"/>
                <a:ext cx="31896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2"/>
              <p:cNvSpPr/>
              <p:nvPr/>
            </p:nvSpPr>
            <p:spPr>
              <a:xfrm>
                <a:off x="5871960" y="6053400"/>
                <a:ext cx="3160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3"/>
              <p:cNvSpPr/>
              <p:nvPr/>
            </p:nvSpPr>
            <p:spPr>
              <a:xfrm>
                <a:off x="6210360" y="6053400"/>
                <a:ext cx="32364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4"/>
              <p:cNvSpPr/>
              <p:nvPr/>
            </p:nvSpPr>
            <p:spPr>
              <a:xfrm>
                <a:off x="6729480" y="602136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25"/>
              <p:cNvSpPr/>
              <p:nvPr/>
            </p:nvSpPr>
            <p:spPr>
              <a:xfrm>
                <a:off x="6566040" y="6053400"/>
                <a:ext cx="32220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26"/>
              <p:cNvSpPr/>
              <p:nvPr/>
            </p:nvSpPr>
            <p:spPr>
              <a:xfrm>
                <a:off x="4683240" y="515016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27"/>
              <p:cNvSpPr/>
              <p:nvPr/>
            </p:nvSpPr>
            <p:spPr>
              <a:xfrm>
                <a:off x="4683240" y="476892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28"/>
              <p:cNvSpPr/>
              <p:nvPr/>
            </p:nvSpPr>
            <p:spPr>
              <a:xfrm>
                <a:off x="4683240" y="568332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7102440" y="60134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30"/>
              <p:cNvSpPr/>
              <p:nvPr/>
            </p:nvSpPr>
            <p:spPr>
              <a:xfrm>
                <a:off x="6950160" y="6053400"/>
                <a:ext cx="32220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6645240" y="6053400"/>
                <a:ext cx="6094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>
                <a:off x="5273640" y="49104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7102440" y="49100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5273640" y="56721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5"/>
              <p:cNvSpPr/>
              <p:nvPr/>
            </p:nvSpPr>
            <p:spPr>
              <a:xfrm flipV="1">
                <a:off x="6035760" y="5671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5273640" y="58248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 flipV="1">
                <a:off x="5654520" y="5824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8"/>
              <p:cNvSpPr/>
              <p:nvPr/>
            </p:nvSpPr>
            <p:spPr>
              <a:xfrm flipV="1">
                <a:off x="6950160" y="49100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39"/>
              <p:cNvSpPr/>
              <p:nvPr/>
            </p:nvSpPr>
            <p:spPr>
              <a:xfrm flipV="1">
                <a:off x="5273640" y="4910040"/>
                <a:ext cx="18288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Group 40"/>
              <p:cNvGrpSpPr/>
              <p:nvPr/>
            </p:nvGrpSpPr>
            <p:grpSpPr>
              <a:xfrm>
                <a:off x="5273640" y="4910400"/>
                <a:ext cx="1676520" cy="1142640"/>
                <a:chOff x="5273640" y="4910400"/>
                <a:chExt cx="1676520" cy="1142640"/>
              </a:xfrm>
            </p:grpSpPr>
            <p:sp>
              <p:nvSpPr>
                <p:cNvPr id="219" name="Line 41"/>
                <p:cNvSpPr/>
                <p:nvPr/>
              </p:nvSpPr>
              <p:spPr>
                <a:xfrm flipV="1">
                  <a:off x="5273640" y="5671800"/>
                  <a:ext cx="762120" cy="38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2"/>
                <p:cNvSpPr/>
                <p:nvPr/>
              </p:nvSpPr>
              <p:spPr>
                <a:xfrm flipV="1">
                  <a:off x="6035760" y="4910400"/>
                  <a:ext cx="914400" cy="76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Text Box 43"/>
              <p:cNvSpPr/>
              <p:nvPr/>
            </p:nvSpPr>
            <p:spPr>
              <a:xfrm>
                <a:off x="6645240" y="4605480"/>
                <a:ext cx="4572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44"/>
              <p:cNvSpPr/>
              <p:nvPr/>
            </p:nvSpPr>
            <p:spPr>
              <a:xfrm>
                <a:off x="6873840" y="4605480"/>
                <a:ext cx="4572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45"/>
              <p:cNvSpPr/>
              <p:nvPr/>
            </p:nvSpPr>
            <p:spPr>
              <a:xfrm>
                <a:off x="5197320" y="4300560"/>
                <a:ext cx="83844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(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米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46"/>
            <p:cNvSpPr/>
            <p:nvPr/>
          </p:nvSpPr>
          <p:spPr>
            <a:xfrm>
              <a:off x="7197840" y="6041880"/>
              <a:ext cx="83808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80880" y="403200"/>
            <a:ext cx="8283240" cy="596880"/>
            <a:chOff x="380880" y="403200"/>
            <a:chExt cx="8283240" cy="596880"/>
          </a:xfrm>
        </p:grpSpPr>
        <p:sp>
          <p:nvSpPr>
            <p:cNvPr id="226" name="Text Box 3"/>
            <p:cNvSpPr/>
            <p:nvPr/>
          </p:nvSpPr>
          <p:spPr>
            <a:xfrm>
              <a:off x="1523520" y="403200"/>
              <a:ext cx="71406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1)(2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观察图象可得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用待定系数法解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4"/>
            <p:cNvGrpSpPr/>
            <p:nvPr/>
          </p:nvGrpSpPr>
          <p:grpSpPr>
            <a:xfrm>
              <a:off x="380880" y="466560"/>
              <a:ext cx="1230480" cy="533520"/>
              <a:chOff x="380880" y="466560"/>
              <a:chExt cx="1230480" cy="533520"/>
            </a:xfrm>
          </p:grpSpPr>
          <p:sp>
            <p:nvSpPr>
              <p:cNvPr id="228" name="AutoShape 5"/>
              <p:cNvSpPr/>
              <p:nvPr/>
            </p:nvSpPr>
            <p:spPr>
              <a:xfrm>
                <a:off x="380880" y="466560"/>
                <a:ext cx="1230480" cy="533520"/>
              </a:xfrm>
              <a:prstGeom prst="rightArrow">
                <a:avLst>
                  <a:gd name="adj1" fmla="val 59370"/>
                  <a:gd name="adj2" fmla="val 64866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6"/>
              <p:cNvSpPr/>
              <p:nvPr/>
            </p:nvSpPr>
            <p:spPr>
              <a:xfrm>
                <a:off x="716040" y="4791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9"/>
          <p:cNvGrpSpPr/>
          <p:nvPr/>
        </p:nvGrpSpPr>
        <p:grpSpPr>
          <a:xfrm>
            <a:off x="781200" y="866880"/>
            <a:ext cx="7238880" cy="5031720"/>
            <a:chOff x="781200" y="866880"/>
            <a:chExt cx="7238880" cy="5031720"/>
          </a:xfrm>
        </p:grpSpPr>
        <p:sp>
          <p:nvSpPr>
            <p:cNvPr id="231" name="Text Box 10"/>
            <p:cNvSpPr/>
            <p:nvPr/>
          </p:nvSpPr>
          <p:spPr>
            <a:xfrm>
              <a:off x="781200" y="866880"/>
              <a:ext cx="723888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由图象，可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.8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分钟时甲龙舟队处于领先位置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在这次龙舟赛中，乙龙舟队先到达终点，比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提前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.5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分钟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设乙队加速后，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与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的关系式为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x+b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将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(2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300)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、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(4.5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050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分别代入上式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  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∴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 300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-300(2≤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≤4.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Object 11" descr=""/>
            <p:cNvPicPr/>
            <p:nvPr/>
          </p:nvPicPr>
          <p:blipFill>
            <a:blip r:embed="rId1"/>
            <a:stretch/>
          </p:blipFill>
          <p:spPr>
            <a:xfrm>
              <a:off x="1244520" y="4591080"/>
              <a:ext cx="184104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Object 12" descr=""/>
            <p:cNvPicPr/>
            <p:nvPr/>
          </p:nvPicPr>
          <p:blipFill>
            <a:blip r:embed="rId2"/>
            <a:stretch/>
          </p:blipFill>
          <p:spPr>
            <a:xfrm>
              <a:off x="3779640" y="4592520"/>
              <a:ext cx="1155240" cy="73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3"/>
          <p:cNvGrpSpPr/>
          <p:nvPr/>
        </p:nvGrpSpPr>
        <p:grpSpPr>
          <a:xfrm>
            <a:off x="5084640" y="4290840"/>
            <a:ext cx="3352680" cy="2069640"/>
            <a:chOff x="5084640" y="4290840"/>
            <a:chExt cx="3352680" cy="2069640"/>
          </a:xfrm>
        </p:grpSpPr>
        <p:grpSp>
          <p:nvGrpSpPr>
            <p:cNvPr id="235" name="Group 14"/>
            <p:cNvGrpSpPr/>
            <p:nvPr/>
          </p:nvGrpSpPr>
          <p:grpSpPr>
            <a:xfrm>
              <a:off x="5084640" y="4290840"/>
              <a:ext cx="2800080" cy="2047320"/>
              <a:chOff x="5084640" y="4290840"/>
              <a:chExt cx="2800080" cy="2047320"/>
            </a:xfrm>
          </p:grpSpPr>
          <p:sp>
            <p:nvSpPr>
              <p:cNvPr id="236" name="Line 15"/>
              <p:cNvSpPr/>
              <p:nvPr/>
            </p:nvSpPr>
            <p:spPr>
              <a:xfrm>
                <a:off x="6053040" y="60116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>
                <a:off x="5084640" y="548964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7"/>
              <p:cNvSpPr/>
              <p:nvPr/>
            </p:nvSpPr>
            <p:spPr>
              <a:xfrm>
                <a:off x="5446440" y="5994360"/>
                <a:ext cx="31428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8"/>
              <p:cNvSpPr/>
              <p:nvPr/>
            </p:nvSpPr>
            <p:spPr>
              <a:xfrm flipH="1">
                <a:off x="5654160" y="5292720"/>
                <a:ext cx="4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9"/>
              <p:cNvSpPr/>
              <p:nvPr/>
            </p:nvSpPr>
            <p:spPr>
              <a:xfrm flipV="1">
                <a:off x="5422680" y="6043680"/>
                <a:ext cx="246204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20"/>
              <p:cNvSpPr/>
              <p:nvPr/>
            </p:nvSpPr>
            <p:spPr>
              <a:xfrm flipV="1">
                <a:off x="5698800" y="4414680"/>
                <a:ext cx="0" cy="187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21"/>
              <p:cNvSpPr/>
              <p:nvPr/>
            </p:nvSpPr>
            <p:spPr>
              <a:xfrm>
                <a:off x="6437160" y="60116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2"/>
              <p:cNvSpPr/>
              <p:nvPr/>
            </p:nvSpPr>
            <p:spPr>
              <a:xfrm flipH="1">
                <a:off x="5654160" y="5651280"/>
                <a:ext cx="4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3"/>
              <p:cNvSpPr/>
              <p:nvPr/>
            </p:nvSpPr>
            <p:spPr>
              <a:xfrm>
                <a:off x="6770520" y="60116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4"/>
              <p:cNvSpPr/>
              <p:nvPr/>
            </p:nvSpPr>
            <p:spPr>
              <a:xfrm flipH="1">
                <a:off x="5652720" y="4933800"/>
                <a:ext cx="4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25"/>
              <p:cNvSpPr/>
              <p:nvPr/>
            </p:nvSpPr>
            <p:spPr>
              <a:xfrm>
                <a:off x="5892480" y="6043680"/>
                <a:ext cx="31896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6"/>
              <p:cNvSpPr/>
              <p:nvPr/>
            </p:nvSpPr>
            <p:spPr>
              <a:xfrm>
                <a:off x="6273360" y="6043680"/>
                <a:ext cx="3160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7"/>
              <p:cNvSpPr/>
              <p:nvPr/>
            </p:nvSpPr>
            <p:spPr>
              <a:xfrm>
                <a:off x="6611760" y="6043680"/>
                <a:ext cx="32364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28"/>
              <p:cNvSpPr/>
              <p:nvPr/>
            </p:nvSpPr>
            <p:spPr>
              <a:xfrm>
                <a:off x="7130880" y="601164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29"/>
              <p:cNvSpPr/>
              <p:nvPr/>
            </p:nvSpPr>
            <p:spPr>
              <a:xfrm>
                <a:off x="6967440" y="6043680"/>
                <a:ext cx="32220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30"/>
              <p:cNvSpPr/>
              <p:nvPr/>
            </p:nvSpPr>
            <p:spPr>
              <a:xfrm>
                <a:off x="5084640" y="514044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31"/>
              <p:cNvSpPr/>
              <p:nvPr/>
            </p:nvSpPr>
            <p:spPr>
              <a:xfrm>
                <a:off x="5084640" y="475920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32"/>
              <p:cNvSpPr/>
              <p:nvPr/>
            </p:nvSpPr>
            <p:spPr>
              <a:xfrm>
                <a:off x="5084640" y="5673600"/>
                <a:ext cx="7426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33"/>
              <p:cNvSpPr/>
              <p:nvPr/>
            </p:nvSpPr>
            <p:spPr>
              <a:xfrm>
                <a:off x="7503840" y="6003720"/>
                <a:ext cx="0" cy="3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34"/>
              <p:cNvSpPr/>
              <p:nvPr/>
            </p:nvSpPr>
            <p:spPr>
              <a:xfrm>
                <a:off x="7351560" y="6043680"/>
                <a:ext cx="32220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5"/>
              <p:cNvSpPr/>
              <p:nvPr/>
            </p:nvSpPr>
            <p:spPr>
              <a:xfrm>
                <a:off x="7046640" y="6043680"/>
                <a:ext cx="609480" cy="2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36"/>
              <p:cNvSpPr/>
              <p:nvPr/>
            </p:nvSpPr>
            <p:spPr>
              <a:xfrm>
                <a:off x="5675040" y="49006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37"/>
              <p:cNvSpPr/>
              <p:nvPr/>
            </p:nvSpPr>
            <p:spPr>
              <a:xfrm flipV="1">
                <a:off x="7503840" y="49003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38"/>
              <p:cNvSpPr/>
              <p:nvPr/>
            </p:nvSpPr>
            <p:spPr>
              <a:xfrm>
                <a:off x="5675040" y="566244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39"/>
              <p:cNvSpPr/>
              <p:nvPr/>
            </p:nvSpPr>
            <p:spPr>
              <a:xfrm flipV="1">
                <a:off x="6437160" y="56620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40"/>
              <p:cNvSpPr/>
              <p:nvPr/>
            </p:nvSpPr>
            <p:spPr>
              <a:xfrm>
                <a:off x="5675040" y="5815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6055920" y="5814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 flipV="1">
                <a:off x="7351560" y="49003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43"/>
              <p:cNvSpPr/>
              <p:nvPr/>
            </p:nvSpPr>
            <p:spPr>
              <a:xfrm flipV="1">
                <a:off x="5675040" y="4900320"/>
                <a:ext cx="18288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44"/>
              <p:cNvGrpSpPr/>
              <p:nvPr/>
            </p:nvGrpSpPr>
            <p:grpSpPr>
              <a:xfrm>
                <a:off x="5675040" y="4900680"/>
                <a:ext cx="1676520" cy="1142640"/>
                <a:chOff x="5675040" y="4900680"/>
                <a:chExt cx="1676520" cy="1142640"/>
              </a:xfrm>
            </p:grpSpPr>
            <p:sp>
              <p:nvSpPr>
                <p:cNvPr id="266" name="Line 45"/>
                <p:cNvSpPr/>
                <p:nvPr/>
              </p:nvSpPr>
              <p:spPr>
                <a:xfrm flipV="1">
                  <a:off x="5675040" y="5662080"/>
                  <a:ext cx="762120" cy="38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46"/>
                <p:cNvSpPr/>
                <p:nvPr/>
              </p:nvSpPr>
              <p:spPr>
                <a:xfrm flipV="1">
                  <a:off x="6437160" y="4900680"/>
                  <a:ext cx="914400" cy="76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Text Box 47"/>
              <p:cNvSpPr/>
              <p:nvPr/>
            </p:nvSpPr>
            <p:spPr>
              <a:xfrm>
                <a:off x="7046640" y="4595760"/>
                <a:ext cx="4572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48"/>
              <p:cNvSpPr/>
              <p:nvPr/>
            </p:nvSpPr>
            <p:spPr>
              <a:xfrm>
                <a:off x="7275240" y="4595760"/>
                <a:ext cx="4572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49"/>
              <p:cNvSpPr/>
              <p:nvPr/>
            </p:nvSpPr>
            <p:spPr>
              <a:xfrm>
                <a:off x="5598720" y="4290840"/>
                <a:ext cx="83844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(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米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50"/>
            <p:cNvSpPr/>
            <p:nvPr/>
          </p:nvSpPr>
          <p:spPr>
            <a:xfrm>
              <a:off x="7599240" y="6032160"/>
              <a:ext cx="83808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圆角矩形 31"/>
          <p:cNvSpPr/>
          <p:nvPr/>
        </p:nvSpPr>
        <p:spPr>
          <a:xfrm>
            <a:off x="558720" y="569880"/>
            <a:ext cx="10987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727200"/>
            <a:ext cx="7391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种拖拉机的油箱可储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加满油并开始工作后，油箱中的剩余油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工作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之间为一次函数关系，函数图象如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函数表达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箱油可供拖拉机工作几小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w130"/>
          <p:cNvPicPr/>
          <p:nvPr/>
        </p:nvPicPr>
        <p:blipFill>
          <a:blip r:embed="rId1"/>
          <a:stretch/>
        </p:blipFill>
        <p:spPr>
          <a:xfrm>
            <a:off x="3048120" y="2523960"/>
            <a:ext cx="3581280" cy="25513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7"/>
          <p:cNvSpPr/>
          <p:nvPr/>
        </p:nvSpPr>
        <p:spPr>
          <a:xfrm>
            <a:off x="5887440" y="5218200"/>
            <a:ext cx="193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= </a:t>
            </a:r>
            <a:r>
              <a:rPr b="0" i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+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6854400" y="5773680"/>
            <a:ext cx="5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8 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"/>
          <p:cNvSpPr/>
          <p:nvPr/>
        </p:nvSpPr>
        <p:spPr>
          <a:xfrm>
            <a:off x="558720" y="3787920"/>
            <a:ext cx="811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图象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交点的纵坐标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且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那么此函数的表达式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对象 4" descr=""/>
          <p:cNvPicPr/>
          <p:nvPr/>
        </p:nvPicPr>
        <p:blipFill>
          <a:blip r:embed="rId1"/>
          <a:stretch/>
        </p:blipFill>
        <p:spPr>
          <a:xfrm>
            <a:off x="6000840" y="4498920"/>
            <a:ext cx="1299960" cy="7318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611280" y="691200"/>
            <a:ext cx="797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正比例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过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则这个正比例函数的表达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                                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-2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                                         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4282920" y="1557360"/>
            <a:ext cx="4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对象 1" descr=""/>
          <p:cNvPicPr/>
          <p:nvPr/>
        </p:nvPicPr>
        <p:blipFill>
          <a:blip r:embed="rId2"/>
          <a:stretch/>
        </p:blipFill>
        <p:spPr>
          <a:xfrm>
            <a:off x="1333440" y="2925720"/>
            <a:ext cx="1003320" cy="817560"/>
          </a:xfrm>
          <a:prstGeom prst="rect">
            <a:avLst/>
          </a:prstGeom>
          <a:ln w="0">
            <a:noFill/>
          </a:ln>
        </p:spPr>
      </p:pic>
      <p:pic>
        <p:nvPicPr>
          <p:cNvPr id="283" name="对象 2" descr=""/>
          <p:cNvPicPr/>
          <p:nvPr/>
        </p:nvPicPr>
        <p:blipFill>
          <a:blip r:embed="rId3"/>
          <a:stretch/>
        </p:blipFill>
        <p:spPr>
          <a:xfrm>
            <a:off x="6013440" y="2997360"/>
            <a:ext cx="11556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6"/>
          <p:cNvSpPr/>
          <p:nvPr/>
        </p:nvSpPr>
        <p:spPr>
          <a:xfrm>
            <a:off x="684360" y="1268280"/>
            <a:ext cx="8135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+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，填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=______,k=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7"/>
          <p:cNvGrpSpPr/>
          <p:nvPr/>
        </p:nvGrpSpPr>
        <p:grpSpPr>
          <a:xfrm>
            <a:off x="4716360" y="2276640"/>
            <a:ext cx="3781440" cy="3066480"/>
            <a:chOff x="4716360" y="2276640"/>
            <a:chExt cx="3781440" cy="3066480"/>
          </a:xfrm>
        </p:grpSpPr>
        <p:grpSp>
          <p:nvGrpSpPr>
            <p:cNvPr id="286" name="Group 8"/>
            <p:cNvGrpSpPr/>
            <p:nvPr/>
          </p:nvGrpSpPr>
          <p:grpSpPr>
            <a:xfrm>
              <a:off x="4716360" y="2276640"/>
              <a:ext cx="3781440" cy="3066480"/>
              <a:chOff x="4716360" y="2276640"/>
              <a:chExt cx="3781440" cy="30664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4716360" y="4551480"/>
                <a:ext cx="3600360" cy="360"/>
                <a:chOff x="4716360" y="4551480"/>
                <a:chExt cx="3600360" cy="360"/>
              </a:xfrm>
            </p:grpSpPr>
            <p:sp>
              <p:nvSpPr>
                <p:cNvPr id="288" name="Line 9"/>
                <p:cNvSpPr/>
                <p:nvPr/>
              </p:nvSpPr>
              <p:spPr>
                <a:xfrm>
                  <a:off x="4716360" y="4551480"/>
                  <a:ext cx="3600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4716360" y="4551480"/>
                  <a:ext cx="360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724000" y="2463480"/>
                <a:ext cx="360" cy="2879640"/>
                <a:chOff x="5724000" y="2463480"/>
                <a:chExt cx="360" cy="2879640"/>
              </a:xfrm>
            </p:grpSpPr>
            <p:sp>
              <p:nvSpPr>
                <p:cNvPr id="291" name="Line 10"/>
                <p:cNvSpPr/>
                <p:nvPr/>
              </p:nvSpPr>
              <p:spPr>
                <a:xfrm flipV="1">
                  <a:off x="5724360" y="2463480"/>
                  <a:ext cx="0" cy="28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 rot="10800000">
                  <a:off x="5724000" y="2463480"/>
                  <a:ext cx="360" cy="287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3" name="Object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5984640" y="4392720"/>
                <a:ext cx="16524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243480" y="4408560"/>
                <a:ext cx="2412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565680" y="4411800"/>
                <a:ext cx="211320" cy="51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Objec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842160" y="4408560"/>
                <a:ext cx="23472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140600" y="4411800"/>
                <a:ext cx="212760" cy="51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5553000" y="4087800"/>
                <a:ext cx="28728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Object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5497560" y="3759120"/>
                <a:ext cx="338040" cy="3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Object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5533920" y="3416400"/>
                <a:ext cx="31284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Object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5565600" y="3144960"/>
                <a:ext cx="28116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Object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70560" y="4551480"/>
                <a:ext cx="30960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Object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72360" y="4551480"/>
                <a:ext cx="325440" cy="3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Object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35640" y="2276640"/>
                <a:ext cx="31248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"/>
            <p:cNvGrpSpPr/>
            <p:nvPr/>
          </p:nvGrpSpPr>
          <p:grpSpPr>
            <a:xfrm>
              <a:off x="4916520" y="3357720"/>
              <a:ext cx="2824200" cy="1914480"/>
              <a:chOff x="4916520" y="3357720"/>
              <a:chExt cx="2824200" cy="1914480"/>
            </a:xfrm>
          </p:grpSpPr>
          <p:sp>
            <p:nvSpPr>
              <p:cNvPr id="306" name="Line 23"/>
              <p:cNvSpPr/>
              <p:nvPr/>
            </p:nvSpPr>
            <p:spPr>
              <a:xfrm>
                <a:off x="4916520" y="3357720"/>
                <a:ext cx="2824200" cy="191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4916520" y="3357720"/>
                <a:ext cx="2824200" cy="191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文本框 10865"/>
          <p:cNvSpPr/>
          <p:nvPr/>
        </p:nvSpPr>
        <p:spPr>
          <a:xfrm>
            <a:off x="20545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0867"/>
          <p:cNvSpPr/>
          <p:nvPr/>
        </p:nvSpPr>
        <p:spPr>
          <a:xfrm>
            <a:off x="3493800" y="2852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0868"/>
          <p:cNvSpPr/>
          <p:nvPr/>
        </p:nvSpPr>
        <p:spPr>
          <a:xfrm>
            <a:off x="3493800" y="35733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0869"/>
          <p:cNvSpPr/>
          <p:nvPr/>
        </p:nvSpPr>
        <p:spPr>
          <a:xfrm>
            <a:off x="4932360" y="2995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"/>
          <p:cNvSpPr/>
          <p:nvPr/>
        </p:nvSpPr>
        <p:spPr>
          <a:xfrm>
            <a:off x="3323520" y="2077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372737"/>
          <p:cNvSpPr/>
          <p:nvPr/>
        </p:nvSpPr>
        <p:spPr>
          <a:xfrm>
            <a:off x="506520" y="690480"/>
            <a:ext cx="80247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医药研究所开发了一种新药，在实际验药时发现，如果成人按规定剂量服用，那么每毫升血液中含药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毫克）随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的变化情况如图所示，当成年人按规定剂量服药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服药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血液中含药量最高，达到每毫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毫克，接着逐步衰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服药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血液中含药量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毫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毫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372756"/>
          <p:cNvSpPr/>
          <p:nvPr/>
        </p:nvSpPr>
        <p:spPr>
          <a:xfrm>
            <a:off x="2484360" y="320688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372757"/>
          <p:cNvSpPr/>
          <p:nvPr/>
        </p:nvSpPr>
        <p:spPr>
          <a:xfrm>
            <a:off x="1042920" y="37130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372758"/>
          <p:cNvSpPr/>
          <p:nvPr/>
        </p:nvSpPr>
        <p:spPr>
          <a:xfrm>
            <a:off x="1633680" y="5219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372738"/>
          <p:cNvGrpSpPr/>
          <p:nvPr/>
        </p:nvGrpSpPr>
        <p:grpSpPr>
          <a:xfrm>
            <a:off x="5437080" y="3619440"/>
            <a:ext cx="3852720" cy="2544480"/>
            <a:chOff x="5437080" y="3619440"/>
            <a:chExt cx="3852720" cy="2544480"/>
          </a:xfrm>
        </p:grpSpPr>
        <p:grpSp>
          <p:nvGrpSpPr>
            <p:cNvPr id="318" name="组合 372739"/>
            <p:cNvGrpSpPr/>
            <p:nvPr/>
          </p:nvGrpSpPr>
          <p:grpSpPr>
            <a:xfrm>
              <a:off x="5445720" y="3665520"/>
              <a:ext cx="2819880" cy="2353320"/>
              <a:chOff x="5445720" y="3665520"/>
              <a:chExt cx="2819880" cy="2353320"/>
            </a:xfrm>
          </p:grpSpPr>
          <p:sp>
            <p:nvSpPr>
              <p:cNvPr id="319" name="直接连接符 372740"/>
              <p:cNvSpPr/>
              <p:nvPr/>
            </p:nvSpPr>
            <p:spPr>
              <a:xfrm>
                <a:off x="5850000" y="3665520"/>
                <a:ext cx="0" cy="235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372741"/>
              <p:cNvSpPr/>
              <p:nvPr/>
            </p:nvSpPr>
            <p:spPr>
              <a:xfrm>
                <a:off x="5445720" y="5688720"/>
                <a:ext cx="281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组合 372742"/>
              <p:cNvGrpSpPr/>
              <p:nvPr/>
            </p:nvGrpSpPr>
            <p:grpSpPr>
              <a:xfrm>
                <a:off x="5850000" y="4296240"/>
                <a:ext cx="1947240" cy="1392480"/>
                <a:chOff x="5850000" y="4296240"/>
                <a:chExt cx="1947240" cy="1392480"/>
              </a:xfrm>
            </p:grpSpPr>
            <p:sp>
              <p:nvSpPr>
                <p:cNvPr id="322" name="直接连接符 372743"/>
                <p:cNvSpPr/>
                <p:nvPr/>
              </p:nvSpPr>
              <p:spPr>
                <a:xfrm flipV="1">
                  <a:off x="5850000" y="4296240"/>
                  <a:ext cx="446400" cy="139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直接连接符 372744"/>
                <p:cNvSpPr/>
                <p:nvPr/>
              </p:nvSpPr>
              <p:spPr>
                <a:xfrm>
                  <a:off x="6296400" y="4296600"/>
                  <a:ext cx="1500840" cy="139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直接连接符 372745"/>
              <p:cNvSpPr/>
              <p:nvPr/>
            </p:nvSpPr>
            <p:spPr>
              <a:xfrm>
                <a:off x="6297840" y="4296600"/>
                <a:ext cx="0" cy="140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372746"/>
              <p:cNvSpPr/>
              <p:nvPr/>
            </p:nvSpPr>
            <p:spPr>
              <a:xfrm flipH="1">
                <a:off x="5849640" y="4296600"/>
                <a:ext cx="44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372747"/>
              <p:cNvSpPr/>
              <p:nvPr/>
            </p:nvSpPr>
            <p:spPr>
              <a:xfrm>
                <a:off x="5850000" y="5029920"/>
                <a:ext cx="121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372748"/>
              <p:cNvSpPr/>
              <p:nvPr/>
            </p:nvSpPr>
            <p:spPr>
              <a:xfrm>
                <a:off x="7075080" y="5029920"/>
                <a:ext cx="0" cy="65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文本框 372749"/>
            <p:cNvSpPr/>
            <p:nvPr/>
          </p:nvSpPr>
          <p:spPr>
            <a:xfrm>
              <a:off x="7854480" y="5704200"/>
              <a:ext cx="143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372750"/>
            <p:cNvSpPr/>
            <p:nvPr/>
          </p:nvSpPr>
          <p:spPr>
            <a:xfrm>
              <a:off x="5908320" y="3619440"/>
              <a:ext cx="13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毫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372751"/>
            <p:cNvSpPr/>
            <p:nvPr/>
          </p:nvSpPr>
          <p:spPr>
            <a:xfrm>
              <a:off x="5445720" y="405504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72752"/>
            <p:cNvSpPr/>
            <p:nvPr/>
          </p:nvSpPr>
          <p:spPr>
            <a:xfrm>
              <a:off x="5445720" y="477864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372753"/>
            <p:cNvSpPr/>
            <p:nvPr/>
          </p:nvSpPr>
          <p:spPr>
            <a:xfrm>
              <a:off x="6166080" y="5648400"/>
              <a:ext cx="5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372754"/>
            <p:cNvSpPr/>
            <p:nvPr/>
          </p:nvSpPr>
          <p:spPr>
            <a:xfrm>
              <a:off x="6967800" y="564840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372755"/>
            <p:cNvSpPr/>
            <p:nvPr/>
          </p:nvSpPr>
          <p:spPr>
            <a:xfrm>
              <a:off x="5437080" y="564840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1"/>
          <p:cNvSpPr/>
          <p:nvPr/>
        </p:nvSpPr>
        <p:spPr>
          <a:xfrm>
            <a:off x="493560" y="992160"/>
            <a:ext cx="761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≤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间的函数关系式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≥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间的函数关系式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如果每毫升血液中含药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毫克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毫克以上时，治疗疾病最有效，那么这个有效时间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72759"/>
          <p:cNvSpPr/>
          <p:nvPr/>
        </p:nvSpPr>
        <p:spPr>
          <a:xfrm>
            <a:off x="6588000" y="105876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=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72760"/>
          <p:cNvSpPr/>
          <p:nvPr/>
        </p:nvSpPr>
        <p:spPr>
          <a:xfrm>
            <a:off x="6494400" y="163368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-x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72761"/>
          <p:cNvSpPr/>
          <p:nvPr/>
        </p:nvSpPr>
        <p:spPr>
          <a:xfrm>
            <a:off x="6000840" y="2789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372738"/>
          <p:cNvGrpSpPr/>
          <p:nvPr/>
        </p:nvGrpSpPr>
        <p:grpSpPr>
          <a:xfrm>
            <a:off x="4719600" y="3476520"/>
            <a:ext cx="3924000" cy="2544480"/>
            <a:chOff x="4719600" y="3476520"/>
            <a:chExt cx="3924000" cy="2544480"/>
          </a:xfrm>
        </p:grpSpPr>
        <p:grpSp>
          <p:nvGrpSpPr>
            <p:cNvPr id="340" name="组合 372739"/>
            <p:cNvGrpSpPr/>
            <p:nvPr/>
          </p:nvGrpSpPr>
          <p:grpSpPr>
            <a:xfrm>
              <a:off x="4800600" y="3522600"/>
              <a:ext cx="2818800" cy="2353320"/>
              <a:chOff x="4800600" y="3522600"/>
              <a:chExt cx="2818800" cy="2353320"/>
            </a:xfrm>
          </p:grpSpPr>
          <p:sp>
            <p:nvSpPr>
              <p:cNvPr id="341" name="直接连接符 372740"/>
              <p:cNvSpPr/>
              <p:nvPr/>
            </p:nvSpPr>
            <p:spPr>
              <a:xfrm>
                <a:off x="5204880" y="3522600"/>
                <a:ext cx="0" cy="235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直接连接符 372741"/>
              <p:cNvSpPr/>
              <p:nvPr/>
            </p:nvSpPr>
            <p:spPr>
              <a:xfrm>
                <a:off x="4800600" y="5545800"/>
                <a:ext cx="28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组合 372742"/>
              <p:cNvGrpSpPr/>
              <p:nvPr/>
            </p:nvGrpSpPr>
            <p:grpSpPr>
              <a:xfrm>
                <a:off x="5204880" y="4153320"/>
                <a:ext cx="1946160" cy="1392480"/>
                <a:chOff x="5204880" y="4153320"/>
                <a:chExt cx="1946160" cy="1392480"/>
              </a:xfrm>
            </p:grpSpPr>
            <p:sp>
              <p:nvSpPr>
                <p:cNvPr id="344" name="直接连接符 372743"/>
                <p:cNvSpPr/>
                <p:nvPr/>
              </p:nvSpPr>
              <p:spPr>
                <a:xfrm flipV="1">
                  <a:off x="5204880" y="4153320"/>
                  <a:ext cx="446040" cy="139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372744"/>
                <p:cNvSpPr/>
                <p:nvPr/>
              </p:nvSpPr>
              <p:spPr>
                <a:xfrm>
                  <a:off x="5650920" y="4153680"/>
                  <a:ext cx="1500120" cy="139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直接连接符 372745"/>
              <p:cNvSpPr/>
              <p:nvPr/>
            </p:nvSpPr>
            <p:spPr>
              <a:xfrm>
                <a:off x="5652360" y="4153680"/>
                <a:ext cx="0" cy="140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372746"/>
              <p:cNvSpPr/>
              <p:nvPr/>
            </p:nvSpPr>
            <p:spPr>
              <a:xfrm flipH="1">
                <a:off x="5204520" y="4153680"/>
                <a:ext cx="44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直接连接符 372747"/>
              <p:cNvSpPr/>
              <p:nvPr/>
            </p:nvSpPr>
            <p:spPr>
              <a:xfrm>
                <a:off x="5204880" y="4887000"/>
                <a:ext cx="121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接连接符 372748"/>
              <p:cNvSpPr/>
              <p:nvPr/>
            </p:nvSpPr>
            <p:spPr>
              <a:xfrm>
                <a:off x="6429600" y="4887000"/>
                <a:ext cx="0" cy="65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文本框 372749"/>
            <p:cNvSpPr/>
            <p:nvPr/>
          </p:nvSpPr>
          <p:spPr>
            <a:xfrm>
              <a:off x="7208640" y="556128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372750"/>
            <p:cNvSpPr/>
            <p:nvPr/>
          </p:nvSpPr>
          <p:spPr>
            <a:xfrm>
              <a:off x="5263200" y="3476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毫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372751"/>
            <p:cNvSpPr/>
            <p:nvPr/>
          </p:nvSpPr>
          <p:spPr>
            <a:xfrm>
              <a:off x="4800600" y="391212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文本框 372752"/>
            <p:cNvSpPr/>
            <p:nvPr/>
          </p:nvSpPr>
          <p:spPr>
            <a:xfrm>
              <a:off x="4800600" y="463572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372753"/>
            <p:cNvSpPr/>
            <p:nvPr/>
          </p:nvSpPr>
          <p:spPr>
            <a:xfrm>
              <a:off x="5520960" y="5505480"/>
              <a:ext cx="51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372754"/>
            <p:cNvSpPr/>
            <p:nvPr/>
          </p:nvSpPr>
          <p:spPr>
            <a:xfrm>
              <a:off x="6322320" y="550548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文本框 372755"/>
            <p:cNvSpPr/>
            <p:nvPr/>
          </p:nvSpPr>
          <p:spPr>
            <a:xfrm>
              <a:off x="4719600" y="5505480"/>
              <a:ext cx="5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1908000" y="2708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待定系数法确定一次函数的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左大括号 17"/>
          <p:cNvSpPr/>
          <p:nvPr/>
        </p:nvSpPr>
        <p:spPr>
          <a:xfrm>
            <a:off x="3708360" y="1136520"/>
            <a:ext cx="216000" cy="43084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800 h 4308480"/>
              <a:gd name="textAreaBottom" fmla="*/ 4297680 h 430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"/>
                  <a:pt x="10800" y="174"/>
                </a:cubicBezTo>
                <a:lnTo>
                  <a:pt x="10800" y="10626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7"/>
                  <a:pt x="10800" y="10974"/>
                </a:cubicBezTo>
                <a:lnTo>
                  <a:pt x="10800" y="21426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4068720" y="249228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已知条件列出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方程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997440" y="112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所求的一次函数表达式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4068720" y="37051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，求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067280" y="46418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求出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回表达式即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待定系数法的意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待定系数法求一次函数的表达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403280" y="1628640"/>
            <a:ext cx="756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正比例函数的表达式需要几个条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一次函数的表达式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519200" y="24512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474920" y="39924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3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待定系数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5"/>
          <p:cNvSpPr/>
          <p:nvPr/>
        </p:nvSpPr>
        <p:spPr>
          <a:xfrm>
            <a:off x="825480" y="156852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一次函数的图象经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两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确定这个一次函数的表达式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w129"/>
          <p:cNvPicPr/>
          <p:nvPr/>
        </p:nvPicPr>
        <p:blipFill>
          <a:blip r:embed="rId1"/>
          <a:stretch/>
        </p:blipFill>
        <p:spPr>
          <a:xfrm>
            <a:off x="2514600" y="2836800"/>
            <a:ext cx="4038480" cy="3245040"/>
          </a:xfrm>
          <a:prstGeom prst="rect">
            <a:avLst/>
          </a:prstGeom>
          <a:ln w="0">
            <a:noFill/>
          </a:ln>
        </p:spPr>
      </p:pic>
      <p:sp>
        <p:nvSpPr>
          <p:cNvPr id="90" name="圆角矩形 31"/>
          <p:cNvSpPr/>
          <p:nvPr/>
        </p:nvSpPr>
        <p:spPr>
          <a:xfrm>
            <a:off x="428760" y="112248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901800" y="577800"/>
            <a:ext cx="73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一次函数的一般形式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常数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要求出一次函数的表达式，关键是要确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（即待定系数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619200" y="2612880"/>
            <a:ext cx="2895120" cy="1447200"/>
            <a:chOff x="619200" y="2612880"/>
            <a:chExt cx="2895120" cy="1447200"/>
          </a:xfrm>
        </p:grpSpPr>
        <p:sp>
          <p:nvSpPr>
            <p:cNvPr id="93" name="Rectangle 4"/>
            <p:cNvSpPr/>
            <p:nvPr/>
          </p:nvSpPr>
          <p:spPr>
            <a:xfrm>
              <a:off x="899280" y="2624760"/>
              <a:ext cx="2334960" cy="1435320"/>
            </a:xfrm>
            <a:prstGeom prst="rect">
              <a:avLst/>
            </a:prstGeom>
            <a:solidFill>
              <a:srgbClr val="bd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"/>
            <p:cNvSpPr/>
            <p:nvPr/>
          </p:nvSpPr>
          <p:spPr>
            <a:xfrm>
              <a:off x="619200" y="2612880"/>
              <a:ext cx="28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函数表达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1085760" y="3255480"/>
              <a:ext cx="200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7"/>
          <p:cNvGrpSpPr/>
          <p:nvPr/>
        </p:nvGrpSpPr>
        <p:grpSpPr>
          <a:xfrm>
            <a:off x="4200480" y="2689200"/>
            <a:ext cx="3962160" cy="1559880"/>
            <a:chOff x="4200480" y="2689200"/>
            <a:chExt cx="3962160" cy="1559880"/>
          </a:xfrm>
        </p:grpSpPr>
        <p:sp>
          <p:nvSpPr>
            <p:cNvPr id="97" name="Rectangle 8"/>
            <p:cNvSpPr/>
            <p:nvPr/>
          </p:nvSpPr>
          <p:spPr>
            <a:xfrm>
              <a:off x="4711680" y="2695680"/>
              <a:ext cx="3067200" cy="155340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4200480" y="2689200"/>
              <a:ext cx="39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条件的两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4456440" y="3378240"/>
              <a:ext cx="3578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,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2143080" y="4975200"/>
            <a:ext cx="4266720" cy="1191240"/>
            <a:chOff x="2143080" y="4975200"/>
            <a:chExt cx="4266720" cy="1191240"/>
          </a:xfrm>
        </p:grpSpPr>
        <p:sp>
          <p:nvSpPr>
            <p:cNvPr id="101" name="Rectangle 12"/>
            <p:cNvSpPr/>
            <p:nvPr/>
          </p:nvSpPr>
          <p:spPr>
            <a:xfrm>
              <a:off x="2555640" y="4975200"/>
              <a:ext cx="3303000" cy="1143720"/>
            </a:xfrm>
            <a:prstGeom prst="rect">
              <a:avLst/>
            </a:prstGeom>
            <a:solidFill>
              <a:srgbClr val="ffe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143080" y="4975200"/>
              <a:ext cx="426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次函数的图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直线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14"/>
          <p:cNvSpPr/>
          <p:nvPr/>
        </p:nvSpPr>
        <p:spPr>
          <a:xfrm flipV="1">
            <a:off x="3209760" y="3146400"/>
            <a:ext cx="1447920" cy="76320"/>
          </a:xfrm>
          <a:prstGeom prst="line">
            <a:avLst/>
          </a:prstGeom>
          <a:ln w="2844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3286080" y="3633840"/>
            <a:ext cx="1371600" cy="46080"/>
          </a:xfrm>
          <a:prstGeom prst="line">
            <a:avLst/>
          </a:prstGeom>
          <a:ln w="28440">
            <a:solidFill>
              <a:srgbClr val="008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4200120" y="4213080"/>
            <a:ext cx="1219320" cy="838440"/>
          </a:xfrm>
          <a:prstGeom prst="line">
            <a:avLst/>
          </a:prstGeom>
          <a:ln w="2844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5419800" y="4212720"/>
            <a:ext cx="1066680" cy="762120"/>
          </a:xfrm>
          <a:prstGeom prst="line">
            <a:avLst/>
          </a:prstGeom>
          <a:ln w="28440">
            <a:solidFill>
              <a:srgbClr val="008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3514680" y="2460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3514680" y="3755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4048200" y="4289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5952960" y="4441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dur="indefinite" nodeType="after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12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5"/>
          <p:cNvSpPr/>
          <p:nvPr/>
        </p:nvSpPr>
        <p:spPr>
          <a:xfrm>
            <a:off x="685800" y="577800"/>
            <a:ext cx="84582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 和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都在该函数图象上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因此它们的坐标应满足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， 将这两点坐标代入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式中，得到一个关于</a:t>
            </a:r>
            <a:r>
              <a:rPr b="0" i="1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的二元一次方程组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971800" y="2544840"/>
            <a:ext cx="5110200" cy="1015920"/>
            <a:chOff x="2971800" y="2544840"/>
            <a:chExt cx="5110200" cy="1015920"/>
          </a:xfrm>
        </p:grpSpPr>
        <p:sp>
          <p:nvSpPr>
            <p:cNvPr id="116" name="Rectangle 7"/>
            <p:cNvSpPr/>
            <p:nvPr/>
          </p:nvSpPr>
          <p:spPr>
            <a:xfrm>
              <a:off x="3510000" y="254484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+ b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 + b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2971800" y="2679480"/>
              <a:ext cx="487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2"/>
          <p:cNvGrpSpPr/>
          <p:nvPr/>
        </p:nvGrpSpPr>
        <p:grpSpPr>
          <a:xfrm>
            <a:off x="1576440" y="3621240"/>
            <a:ext cx="7343640" cy="1015920"/>
            <a:chOff x="1576440" y="3621240"/>
            <a:chExt cx="7343640" cy="1015920"/>
          </a:xfrm>
        </p:grpSpPr>
        <p:sp>
          <p:nvSpPr>
            <p:cNvPr id="119" name="Rectangle 19"/>
            <p:cNvSpPr/>
            <p:nvPr/>
          </p:nvSpPr>
          <p:spPr>
            <a:xfrm>
              <a:off x="3809880" y="3760920"/>
              <a:ext cx="83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1576440" y="3913200"/>
              <a:ext cx="1704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这个方程组，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4348080" y="362124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4"/>
          <p:cNvSpPr/>
          <p:nvPr/>
        </p:nvSpPr>
        <p:spPr>
          <a:xfrm>
            <a:off x="3124800" y="5056200"/>
            <a:ext cx="1797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，这个一次函数的表达式为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 1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662040" y="1905120"/>
            <a:ext cx="7675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像这样，通过先设定函数表达式（确定函数模型），再根据条件确定表达式中的未知系数，从而求出函数表达式的方法称为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待定系数法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62120" y="11970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一次函数的图象经过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求这个函数的表达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2"/>
          <p:cNvGrpSpPr/>
          <p:nvPr/>
        </p:nvGrpSpPr>
        <p:grpSpPr>
          <a:xfrm>
            <a:off x="1101600" y="2425680"/>
            <a:ext cx="5487480" cy="3768840"/>
            <a:chOff x="1101600" y="2425680"/>
            <a:chExt cx="5487480" cy="3768840"/>
          </a:xfrm>
        </p:grpSpPr>
        <p:grpSp>
          <p:nvGrpSpPr>
            <p:cNvPr id="127" name="Group 14"/>
            <p:cNvGrpSpPr/>
            <p:nvPr/>
          </p:nvGrpSpPr>
          <p:grpSpPr>
            <a:xfrm>
              <a:off x="1101600" y="2425680"/>
              <a:ext cx="5487480" cy="898200"/>
              <a:chOff x="1101600" y="2425680"/>
              <a:chExt cx="5487480" cy="898200"/>
            </a:xfrm>
          </p:grpSpPr>
          <p:sp>
            <p:nvSpPr>
              <p:cNvPr id="128" name="Text Box 15"/>
              <p:cNvSpPr/>
              <p:nvPr/>
            </p:nvSpPr>
            <p:spPr>
              <a:xfrm>
                <a:off x="1101600" y="2459160"/>
                <a:ext cx="81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解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6"/>
              <p:cNvSpPr/>
              <p:nvPr/>
            </p:nvSpPr>
            <p:spPr>
              <a:xfrm>
                <a:off x="1644120" y="2425680"/>
                <a:ext cx="4944960" cy="89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设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=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kx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+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b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，由于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A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，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B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两点都在这个函数的图象上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7"/>
            <p:cNvGrpSpPr/>
            <p:nvPr/>
          </p:nvGrpSpPr>
          <p:grpSpPr>
            <a:xfrm>
              <a:off x="1636560" y="3245040"/>
              <a:ext cx="4944960" cy="1066320"/>
              <a:chOff x="1636560" y="3245040"/>
              <a:chExt cx="4944960" cy="1066320"/>
            </a:xfrm>
          </p:grpSpPr>
          <p:sp>
            <p:nvSpPr>
              <p:cNvPr id="131" name="Rectangle 18"/>
              <p:cNvSpPr/>
              <p:nvPr/>
            </p:nvSpPr>
            <p:spPr>
              <a:xfrm>
                <a:off x="1636560" y="3513240"/>
                <a:ext cx="49449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因此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19"/>
              <p:cNvGrpSpPr/>
              <p:nvPr/>
            </p:nvGrpSpPr>
            <p:grpSpPr>
              <a:xfrm>
                <a:off x="2474640" y="3245040"/>
                <a:ext cx="3199680" cy="1066320"/>
                <a:chOff x="2474640" y="3245040"/>
                <a:chExt cx="3199680" cy="1066320"/>
              </a:xfrm>
            </p:grpSpPr>
            <p:sp>
              <p:nvSpPr>
                <p:cNvPr id="133" name="AutoShape 20"/>
                <p:cNvSpPr/>
                <p:nvPr/>
              </p:nvSpPr>
              <p:spPr>
                <a:xfrm>
                  <a:off x="2474640" y="3397320"/>
                  <a:ext cx="151920" cy="838440"/>
                </a:xfrm>
                <a:custGeom>
                  <a:avLst/>
                  <a:gdLst>
                    <a:gd name="textAreaLeft" fmla="*/ 97200 w 151920"/>
                    <a:gd name="textAreaRight" fmla="*/ 152280 w 151920"/>
                    <a:gd name="textAreaTop" fmla="*/ 21600 h 838440"/>
                    <a:gd name="textAreaBottom" fmla="*/ 816840 h 83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9"/>
                        <a:pt x="10800" y="1797"/>
                      </a:cubicBezTo>
                      <a:lnTo>
                        <a:pt x="10800" y="9003"/>
                      </a:lnTo>
                      <a:cubicBezTo>
                        <a:pt x="10800" y="9902"/>
                        <a:pt x="5400" y="10800"/>
                        <a:pt x="0" y="10800"/>
                      </a:cubicBezTo>
                      <a:cubicBezTo>
                        <a:pt x="5400" y="10800"/>
                        <a:pt x="10800" y="11699"/>
                        <a:pt x="10800" y="12597"/>
                      </a:cubicBezTo>
                      <a:lnTo>
                        <a:pt x="10800" y="19803"/>
                      </a:lnTo>
                      <a:cubicBezTo>
                        <a:pt x="10800" y="20702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1"/>
                <p:cNvSpPr/>
                <p:nvPr/>
              </p:nvSpPr>
              <p:spPr>
                <a:xfrm>
                  <a:off x="2626560" y="3245040"/>
                  <a:ext cx="304776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-</a:t>
                  </a:r>
                  <a:r>
                    <a:rPr b="0" i="1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k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+ </a:t>
                  </a:r>
                  <a:r>
                    <a:rPr b="0" i="1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b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= 3</a:t>
                  </a: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22"/>
                <p:cNvSpPr/>
                <p:nvPr/>
              </p:nvSpPr>
              <p:spPr>
                <a:xfrm>
                  <a:off x="2626560" y="3778560"/>
                  <a:ext cx="304776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2</a:t>
                  </a:r>
                  <a:r>
                    <a:rPr b="0" i="1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k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+ </a:t>
                  </a:r>
                  <a:r>
                    <a:rPr b="0" i="1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b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=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-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5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Rectangle 24"/>
            <p:cNvSpPr/>
            <p:nvPr/>
          </p:nvSpPr>
          <p:spPr>
            <a:xfrm>
              <a:off x="1636560" y="5054760"/>
              <a:ext cx="49449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所求一次函数的表达式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31"/>
            <p:cNvGrpSpPr/>
            <p:nvPr/>
          </p:nvGrpSpPr>
          <p:grpSpPr>
            <a:xfrm>
              <a:off x="1636560" y="4381560"/>
              <a:ext cx="4944960" cy="528840"/>
              <a:chOff x="1636560" y="4381560"/>
              <a:chExt cx="4944960" cy="528840"/>
            </a:xfrm>
          </p:grpSpPr>
          <p:sp>
            <p:nvSpPr>
              <p:cNvPr id="138" name="Rectangle 23"/>
              <p:cNvSpPr/>
              <p:nvPr/>
            </p:nvSpPr>
            <p:spPr>
              <a:xfrm>
                <a:off x="1636560" y="4383360"/>
                <a:ext cx="49449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解得  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k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=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   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，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b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=    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Object 26" descr=""/>
              <p:cNvPicPr/>
              <p:nvPr/>
            </p:nvPicPr>
            <p:blipFill>
              <a:blip r:embed="rId1"/>
              <a:stretch/>
            </p:blipFill>
            <p:spPr>
              <a:xfrm>
                <a:off x="3903480" y="4381560"/>
                <a:ext cx="203040" cy="52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Object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5760" y="4389480"/>
                <a:ext cx="368280" cy="52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2855520" y="5618160"/>
              <a:ext cx="3353040" cy="576360"/>
              <a:chOff x="2855520" y="5618160"/>
              <a:chExt cx="3353040" cy="576360"/>
            </a:xfrm>
          </p:grpSpPr>
          <p:sp>
            <p:nvSpPr>
              <p:cNvPr id="142" name="Rectangle 25"/>
              <p:cNvSpPr/>
              <p:nvPr/>
            </p:nvSpPr>
            <p:spPr>
              <a:xfrm>
                <a:off x="2855520" y="5618160"/>
                <a:ext cx="335304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y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=      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x 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+    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" name="Object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9040" y="5673960"/>
                <a:ext cx="368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Object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98680" y="5673960"/>
                <a:ext cx="203040" cy="52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" name="圆角矩形 31"/>
          <p:cNvSpPr/>
          <p:nvPr/>
        </p:nvSpPr>
        <p:spPr>
          <a:xfrm>
            <a:off x="428760" y="64152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圆角矩形 31"/>
          <p:cNvSpPr/>
          <p:nvPr/>
        </p:nvSpPr>
        <p:spPr>
          <a:xfrm>
            <a:off x="701640" y="714240"/>
            <a:ext cx="1100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324800"/>
            <a:ext cx="79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如图，则下列结论正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是                                                                        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337520" y="185256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4200" y="4916520"/>
            <a:ext cx="2881440" cy="360"/>
            <a:chOff x="2554200" y="4916520"/>
            <a:chExt cx="2881440" cy="360"/>
          </a:xfrm>
        </p:grpSpPr>
        <p:sp>
          <p:nvSpPr>
            <p:cNvPr id="150" name="直接连接符 16582"/>
            <p:cNvSpPr/>
            <p:nvPr/>
          </p:nvSpPr>
          <p:spPr>
            <a:xfrm>
              <a:off x="2554200" y="4916520"/>
              <a:ext cx="2881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554200" y="4916520"/>
              <a:ext cx="28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924360" y="3213000"/>
            <a:ext cx="360" cy="2737080"/>
            <a:chOff x="3924360" y="3213000"/>
            <a:chExt cx="360" cy="2737080"/>
          </a:xfrm>
        </p:grpSpPr>
        <p:sp>
          <p:nvSpPr>
            <p:cNvPr id="153" name="直接连接符 16583"/>
            <p:cNvSpPr/>
            <p:nvPr/>
          </p:nvSpPr>
          <p:spPr>
            <a:xfrm>
              <a:off x="3924360" y="3213000"/>
              <a:ext cx="0" cy="2737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24360" y="3213000"/>
              <a:ext cx="360" cy="273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16584"/>
          <p:cNvSpPr/>
          <p:nvPr/>
        </p:nvSpPr>
        <p:spPr>
          <a:xfrm>
            <a:off x="4067280" y="2971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6585"/>
          <p:cNvSpPr/>
          <p:nvPr/>
        </p:nvSpPr>
        <p:spPr>
          <a:xfrm>
            <a:off x="5435640" y="4627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6586"/>
          <p:cNvSpPr/>
          <p:nvPr/>
        </p:nvSpPr>
        <p:spPr>
          <a:xfrm>
            <a:off x="3564000" y="4843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6587"/>
          <p:cNvSpPr/>
          <p:nvPr/>
        </p:nvSpPr>
        <p:spPr>
          <a:xfrm>
            <a:off x="435600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6588"/>
          <p:cNvSpPr/>
          <p:nvPr/>
        </p:nvSpPr>
        <p:spPr>
          <a:xfrm>
            <a:off x="3564000" y="364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64000" y="3284640"/>
            <a:ext cx="1439640" cy="2449440"/>
            <a:chOff x="3564000" y="3284640"/>
            <a:chExt cx="1439640" cy="2449440"/>
          </a:xfrm>
        </p:grpSpPr>
        <p:sp>
          <p:nvSpPr>
            <p:cNvPr id="161" name="直接连接符 16589"/>
            <p:cNvSpPr/>
            <p:nvPr/>
          </p:nvSpPr>
          <p:spPr>
            <a:xfrm>
              <a:off x="3564000" y="3284640"/>
              <a:ext cx="1439640" cy="2449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564000" y="3284640"/>
              <a:ext cx="1439640" cy="24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8:40Z</dcterms:created>
  <dc:creator> </dc:creator>
  <dc:description> </dc:description>
  <dc:language>en-US</dc:language>
  <cp:lastModifiedBy>Administrator</cp:lastModifiedBy>
  <dcterms:modified xsi:type="dcterms:W3CDTF">2018-12-29T02:49:1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